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6040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 flipH="1">
            <a:off x="5327640" y="2895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645160" y="30481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664080" y="198108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477120" y="1987560"/>
            <a:ext cx="612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93520" y="282600"/>
            <a:ext cx="218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yment Due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69760" y="1090440"/>
            <a:ext cx="90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tra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05920" y="851040"/>
            <a:ext cx="1030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ng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4760" y="851040"/>
            <a:ext cx="61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11240" y="109548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22680" y="1095480"/>
            <a:ext cx="12063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2160" y="1565280"/>
            <a:ext cx="1324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voice Da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3520" y="1793880"/>
            <a:ext cx="1425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ei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 Billing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39320" y="2327400"/>
            <a:ext cx="73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11240" y="1547640"/>
            <a:ext cx="1816200" cy="105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95480" y="156528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21280" y="1547640"/>
            <a:ext cx="6728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5600" y="1565280"/>
            <a:ext cx="76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15080" y="1547640"/>
            <a:ext cx="12063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41320" y="1565280"/>
            <a:ext cx="2433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iscount Payment Due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000" y="2843280"/>
            <a:ext cx="18730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eiv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O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O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11240" y="2749680"/>
            <a:ext cx="1587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5080" y="2766960"/>
            <a:ext cx="58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7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38560" y="274968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91040" y="290844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3200400"/>
            <a:ext cx="212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638680" y="2889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43880" y="2908440"/>
            <a:ext cx="12063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67560" y="199404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975520" y="2801880"/>
            <a:ext cx="934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e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73520" y="2538360"/>
            <a:ext cx="96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 30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00440" y="291924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4760" y="3529080"/>
            <a:ext cx="984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45080" y="355932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est Penal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16080" y="3857760"/>
            <a:ext cx="946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an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4960" y="4138560"/>
            <a:ext cx="725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CP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P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7000" y="4121280"/>
            <a:ext cx="11304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4121280"/>
            <a:ext cx="9018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63880" y="4800600"/>
            <a:ext cx="10206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15920" y="490068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52800" y="4873680"/>
            <a:ext cx="8650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30480" y="4900680"/>
            <a:ext cx="986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8160" y="5338800"/>
            <a:ext cx="34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 Add the total of the “Interest Amount” column to th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iginal amount of principle to get the payment amou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95720" y="3857760"/>
            <a:ext cx="182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aily Percentage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55280" y="3857760"/>
            <a:ext cx="105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teres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74960" y="3857760"/>
            <a:ext cx="766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40920" y="3857760"/>
            <a:ext cx="126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terest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7240" y="4210200"/>
            <a:ext cx="1587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7240" y="4613400"/>
            <a:ext cx="1587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7240" y="5011560"/>
            <a:ext cx="1587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7240" y="5416560"/>
            <a:ext cx="1587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88160" y="42148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88160" y="463716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88160" y="50356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88160" y="543384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54640" y="4210200"/>
            <a:ext cx="85752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54640" y="4613400"/>
            <a:ext cx="85752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54640" y="5011560"/>
            <a:ext cx="857520" cy="28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54640" y="5416560"/>
            <a:ext cx="85752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5800" y="42148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5800" y="463716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5800" y="50356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5800" y="543384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93040" y="4210200"/>
            <a:ext cx="88272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93040" y="4613400"/>
            <a:ext cx="88272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93040" y="5011560"/>
            <a:ext cx="882720" cy="31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93040" y="5416560"/>
            <a:ext cx="88272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54520" y="460692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54520" y="501156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54520" y="539280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75560" y="421488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75560" y="461340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75560" y="501156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75560" y="541656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4760" y="5856120"/>
            <a:ext cx="984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43160" y="5904000"/>
            <a:ext cx="128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8800" y="6272280"/>
            <a:ext cx="1533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52560" y="627840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82760" y="6272280"/>
            <a:ext cx="1254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Discount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19440" y="627840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47480" y="6272280"/>
            <a:ext cx="1744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iscount 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19840" y="627840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8800" y="6653160"/>
            <a:ext cx="1533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52560" y="667692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80960" y="6653160"/>
            <a:ext cx="1650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Discount 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35600" y="6676920"/>
            <a:ext cx="12063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26200" y="6653160"/>
            <a:ext cx="198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st to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29680" y="6676920"/>
            <a:ext cx="12063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17960" y="282600"/>
            <a:ext cx="1278720" cy="1184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    28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50920" y="681120"/>
            <a:ext cx="597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15480" y="566640"/>
            <a:ext cx="368280" cy="56988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28496" dir="9225519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9560" y="220968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40440" y="208116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ER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0400" y="3235320"/>
            <a:ext cx="1495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RLIER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83240" y="22096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46400" y="4084560"/>
            <a:ext cx="480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49840" y="421956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32280" y="3070080"/>
            <a:ext cx="71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51240" y="4213080"/>
            <a:ext cx="8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51240" y="421308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65240" y="650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51800" y="1149480"/>
            <a:ext cx="71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40680" y="1149480"/>
            <a:ext cx="1083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/10, NET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65600" y="1571760"/>
            <a:ext cx="69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65600" y="1952640"/>
            <a:ext cx="69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64160" y="2333520"/>
            <a:ext cx="1083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/10, NET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45120" y="159552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58640" y="1612800"/>
            <a:ext cx="1173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JUN  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02360" y="1301760"/>
            <a:ext cx="291960" cy="29196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61280" y="126684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J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65600" y="2843280"/>
            <a:ext cx="69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75280" y="2790720"/>
            <a:ext cx="69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04080" y="2943360"/>
            <a:ext cx="69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9840" y="3200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04280" y="2028960"/>
            <a:ext cx="69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80240" y="2943360"/>
            <a:ext cx="666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J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6760" y="387360"/>
            <a:ext cx="1206360" cy="977760"/>
          </a:xfrm>
          <a:custGeom>
            <a:avLst/>
            <a:gdLst>
              <a:gd name="textAreaLeft" fmla="*/ 44640 w 1206360"/>
              <a:gd name="textAreaRight" fmla="*/ 1161720 w 1206360"/>
              <a:gd name="textAreaTop" fmla="*/ 36000 h 977760"/>
              <a:gd name="textAreaBottom" fmla="*/ 780840 h 9777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42680" y="550800"/>
            <a:ext cx="12103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OUNT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09520" y="6296040"/>
            <a:ext cx="778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0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08800" y="6296040"/>
            <a:ext cx="394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24040" y="6302520"/>
            <a:ext cx="565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4480" y="6711840"/>
            <a:ext cx="778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0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76080" y="6700680"/>
            <a:ext cx="565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486280" y="6700680"/>
            <a:ext cx="778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92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2400" y="7238880"/>
            <a:ext cx="893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723 AK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 flipH="1">
            <a:off x="5327640" y="2895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45160" y="30481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198108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1987560"/>
            <a:ext cx="612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93520" y="276120"/>
            <a:ext cx="218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yment Due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9760" y="1084320"/>
            <a:ext cx="90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tra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05920" y="844560"/>
            <a:ext cx="1030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ng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4400" y="844560"/>
            <a:ext cx="61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1240" y="109548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22680" y="1095480"/>
            <a:ext cx="12063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2160" y="1558800"/>
            <a:ext cx="1324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voice Da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3160" y="1787400"/>
            <a:ext cx="1425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ei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 Billing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38960" y="2320920"/>
            <a:ext cx="73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11240" y="1547640"/>
            <a:ext cx="1816200" cy="105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95120" y="155880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21280" y="1547640"/>
            <a:ext cx="6728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35600" y="1558800"/>
            <a:ext cx="76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15080" y="1547640"/>
            <a:ext cx="12063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1320" y="1558800"/>
            <a:ext cx="2433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iscount Payment Due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5320" y="2836800"/>
            <a:ext cx="1722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eiv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O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O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1240" y="2749680"/>
            <a:ext cx="1587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5080" y="2760840"/>
            <a:ext cx="58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7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38560" y="274968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91040" y="290844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3200400"/>
            <a:ext cx="212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638680" y="2889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43880" y="2908440"/>
            <a:ext cx="12063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67560" y="199404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975160" y="2795760"/>
            <a:ext cx="934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e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73160" y="2532240"/>
            <a:ext cx="96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 30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00440" y="291312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760" y="3529080"/>
            <a:ext cx="984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45080" y="355284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est Penal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15720" y="3851280"/>
            <a:ext cx="946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an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4960" y="4132440"/>
            <a:ext cx="725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CP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P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27000" y="4121280"/>
            <a:ext cx="11304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4000" y="4121280"/>
            <a:ext cx="9018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63880" y="4800600"/>
            <a:ext cx="10206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15560" y="489420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52800" y="4873680"/>
            <a:ext cx="8650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30120" y="4894200"/>
            <a:ext cx="986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7800" y="5332320"/>
            <a:ext cx="34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 Add the total of the “Interest Amount” column to th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iginal amount of principle to get the payment amou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95360" y="3851280"/>
            <a:ext cx="182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aily Percentage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55280" y="3851280"/>
            <a:ext cx="105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teres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74600" y="3851280"/>
            <a:ext cx="766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40920" y="3851280"/>
            <a:ext cx="126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terest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7240" y="4210200"/>
            <a:ext cx="1587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97240" y="4613400"/>
            <a:ext cx="1587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97240" y="5011560"/>
            <a:ext cx="1587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7240" y="5416560"/>
            <a:ext cx="1587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87800" y="42084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87800" y="46306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87800" y="50292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87800" y="542772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54640" y="4210200"/>
            <a:ext cx="85752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54640" y="4613400"/>
            <a:ext cx="85752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54640" y="5011560"/>
            <a:ext cx="857520" cy="28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54640" y="5416560"/>
            <a:ext cx="85752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5800" y="42084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65800" y="46306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65800" y="50292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65800" y="542772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93040" y="4210200"/>
            <a:ext cx="88272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93040" y="4613400"/>
            <a:ext cx="88272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93040" y="5011560"/>
            <a:ext cx="882720" cy="31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3040" y="5416560"/>
            <a:ext cx="88272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54520" y="460044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54520" y="500544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54520" y="538632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575560" y="421488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575560" y="461340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575560" y="501156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575560" y="541656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4760" y="5856120"/>
            <a:ext cx="984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3160" y="5897520"/>
            <a:ext cx="128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8800" y="6265800"/>
            <a:ext cx="1533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52560" y="627840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82760" y="6265800"/>
            <a:ext cx="1254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Discount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19440" y="627840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47480" y="6265800"/>
            <a:ext cx="1744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iscount 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19840" y="627840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8800" y="6647040"/>
            <a:ext cx="1533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52560" y="667692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80600" y="6647040"/>
            <a:ext cx="1650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Discount 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35600" y="6676920"/>
            <a:ext cx="12063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26200" y="6647040"/>
            <a:ext cx="198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st to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29680" y="6676920"/>
            <a:ext cx="12063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17960" y="282600"/>
            <a:ext cx="1278720" cy="1184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    28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250560" y="674640"/>
            <a:ext cx="597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015480" y="566640"/>
            <a:ext cx="368280" cy="56988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28496" dir="9225519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59560" y="220968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40440" y="207504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ER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00760" y="3228840"/>
            <a:ext cx="1495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RLIER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83240" y="22096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46400" y="4084560"/>
            <a:ext cx="480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49840" y="421308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32280" y="3070080"/>
            <a:ext cx="71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51240" y="4213080"/>
            <a:ext cx="8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51240" y="421308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65240" y="650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75840" y="1149480"/>
            <a:ext cx="75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LO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16640" y="1143000"/>
            <a:ext cx="1083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/10, NET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41200" y="156528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41200" y="198108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40120" y="2327400"/>
            <a:ext cx="1083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/10, NET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62400" y="158256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27400" y="156528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9560" y="615960"/>
            <a:ext cx="1054080" cy="825480"/>
          </a:xfrm>
          <a:custGeom>
            <a:avLst/>
            <a:gdLst>
              <a:gd name="textAreaLeft" fmla="*/ 38880 w 1054080"/>
              <a:gd name="textAreaRight" fmla="*/ 1015200 w 1054080"/>
              <a:gd name="textAreaTop" fmla="*/ 30240 h 825480"/>
              <a:gd name="textAreaBottom" fmla="*/ 659520 h 8254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80080" y="744480"/>
            <a:ext cx="1062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UNT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34720" y="283680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41200" y="316548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50880" y="278460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03360" y="293688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56200" y="202248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56560" y="2936880"/>
            <a:ext cx="72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3800" y="4156200"/>
            <a:ext cx="69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28880" y="4367160"/>
            <a:ext cx="72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15880" y="4156200"/>
            <a:ext cx="437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22440" y="491796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87600" y="4238640"/>
            <a:ext cx="566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08219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.08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4,774.25               33.3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25400" y="4613400"/>
            <a:ext cx="5046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019178                                    .085                     4,807.60                7.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4680" y="7162920"/>
            <a:ext cx="893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723 AK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 flipH="1">
            <a:off x="5327640" y="2895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45160" y="30481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64080" y="198108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77120" y="1987560"/>
            <a:ext cx="612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93520" y="276120"/>
            <a:ext cx="218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yment Due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69760" y="1084320"/>
            <a:ext cx="90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tra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05920" y="844560"/>
            <a:ext cx="1030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ng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4400" y="844560"/>
            <a:ext cx="61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11240" y="109548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22680" y="1095480"/>
            <a:ext cx="12063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2160" y="1558800"/>
            <a:ext cx="1324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voice Da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3160" y="1787400"/>
            <a:ext cx="1425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ei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 Billing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38960" y="2320920"/>
            <a:ext cx="73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11240" y="1547640"/>
            <a:ext cx="1816200" cy="105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95120" y="155880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21280" y="1547640"/>
            <a:ext cx="6728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35600" y="1558800"/>
            <a:ext cx="76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15080" y="1547640"/>
            <a:ext cx="12063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41320" y="1558800"/>
            <a:ext cx="2433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iscount Payment Due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5320" y="2836800"/>
            <a:ext cx="1722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eiv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O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O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11240" y="2749680"/>
            <a:ext cx="1587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65080" y="2760840"/>
            <a:ext cx="58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7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38560" y="274968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91040" y="290844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05320" y="3200400"/>
            <a:ext cx="212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638680" y="2889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43880" y="2908440"/>
            <a:ext cx="12063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67560" y="199404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975160" y="2795760"/>
            <a:ext cx="934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e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73160" y="2532240"/>
            <a:ext cx="96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 30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00440" y="291312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4760" y="3529080"/>
            <a:ext cx="984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45080" y="355284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est Penal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15720" y="3851280"/>
            <a:ext cx="946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an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4960" y="4132440"/>
            <a:ext cx="725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CP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P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27000" y="4121280"/>
            <a:ext cx="11304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24000" y="4121280"/>
            <a:ext cx="9018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63880" y="4800600"/>
            <a:ext cx="10206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15560" y="489420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52800" y="4873680"/>
            <a:ext cx="8650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30120" y="4894200"/>
            <a:ext cx="986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7800" y="5332320"/>
            <a:ext cx="34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 Add the total of the “Interest Amount” column to th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iginal amount of principle to get the payment amou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95360" y="3851280"/>
            <a:ext cx="182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aily Percentage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55280" y="3851280"/>
            <a:ext cx="105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teres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74600" y="3851280"/>
            <a:ext cx="766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440920" y="3851280"/>
            <a:ext cx="126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terest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97240" y="4210200"/>
            <a:ext cx="1587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97240" y="4613400"/>
            <a:ext cx="1587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97240" y="5011560"/>
            <a:ext cx="1587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97240" y="5416560"/>
            <a:ext cx="1587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87800" y="42084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87800" y="46306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87800" y="50292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87800" y="542772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54640" y="4210200"/>
            <a:ext cx="85752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54640" y="4613400"/>
            <a:ext cx="85752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54640" y="5011560"/>
            <a:ext cx="857520" cy="28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54640" y="5416560"/>
            <a:ext cx="85752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65800" y="42084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5800" y="46306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65800" y="50292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65800" y="542772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93040" y="4210200"/>
            <a:ext cx="88272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493040" y="4613400"/>
            <a:ext cx="88272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93040" y="5011560"/>
            <a:ext cx="882720" cy="31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93040" y="5416560"/>
            <a:ext cx="88272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54520" y="460044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54520" y="500544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54520" y="538632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75560" y="421488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575560" y="461340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575560" y="501156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575560" y="541656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4760" y="5856120"/>
            <a:ext cx="984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43160" y="5897520"/>
            <a:ext cx="128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8800" y="6265800"/>
            <a:ext cx="1533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52560" y="627840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82760" y="6265800"/>
            <a:ext cx="1254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Discount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19440" y="627840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47480" y="6265800"/>
            <a:ext cx="1744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iscount 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719840" y="627840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8800" y="6647040"/>
            <a:ext cx="1533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52560" y="667692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80600" y="6647040"/>
            <a:ext cx="1650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Discount 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35600" y="6676920"/>
            <a:ext cx="12063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226200" y="6647040"/>
            <a:ext cx="198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st to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29680" y="6676920"/>
            <a:ext cx="12063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179920" y="206280"/>
            <a:ext cx="1278720" cy="1184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    28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914320" y="674640"/>
            <a:ext cx="597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610480" y="566640"/>
            <a:ext cx="368280" cy="56988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28496" dir="9225519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9560" y="220968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40440" y="207504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ER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00760" y="3228840"/>
            <a:ext cx="1495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RLIER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83240" y="22096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46400" y="4084560"/>
            <a:ext cx="480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49840" y="421308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32280" y="3070080"/>
            <a:ext cx="71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51240" y="4213080"/>
            <a:ext cx="8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51240" y="421308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65240" y="650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3280" y="1160640"/>
            <a:ext cx="71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34000" y="1143000"/>
            <a:ext cx="699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17800" y="1606680"/>
            <a:ext cx="69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00160" y="1981080"/>
            <a:ext cx="69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81440" y="2344680"/>
            <a:ext cx="1083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/20, NET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62400" y="1606680"/>
            <a:ext cx="394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27760" y="156528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J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64520" y="2860560"/>
            <a:ext cx="132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JUN / 16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86720" y="2784600"/>
            <a:ext cx="1284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JUN/ 23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39840" y="320040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839200" y="2936880"/>
            <a:ext cx="1284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JUN/ 23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80240" y="2022480"/>
            <a:ext cx="69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79880" y="2936880"/>
            <a:ext cx="666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J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35880" y="539640"/>
            <a:ext cx="901440" cy="901800"/>
          </a:xfrm>
          <a:custGeom>
            <a:avLst/>
            <a:gdLst>
              <a:gd name="textAreaLeft" fmla="*/ 33120 w 901440"/>
              <a:gd name="textAreaRight" fmla="*/ 868320 w 901440"/>
              <a:gd name="textAreaTop" fmla="*/ 33120 h 901800"/>
              <a:gd name="textAreaBottom" fmla="*/ 720360 h 901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45160" y="679320"/>
            <a:ext cx="1104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UNT 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91880" y="6289560"/>
            <a:ext cx="778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212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08440" y="6289560"/>
            <a:ext cx="394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053920" y="6313320"/>
            <a:ext cx="565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4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98000" y="6688080"/>
            <a:ext cx="778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212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82200" y="6694560"/>
            <a:ext cx="565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4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492760" y="6694560"/>
            <a:ext cx="778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128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2400" y="7238880"/>
            <a:ext cx="893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723 AK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4T17:10:52Z</dcterms:created>
  <dc:creator>Soldier Support Institute</dc:creator>
  <dc:description/>
  <dc:language>en-US</dc:language>
  <cp:lastModifiedBy>Administrator</cp:lastModifiedBy>
  <cp:lastPrinted>1999-12-06T21:15:10Z</cp:lastPrinted>
  <dcterms:modified xsi:type="dcterms:W3CDTF">2004-09-16T18:49:55Z</dcterms:modified>
  <cp:revision>6</cp:revision>
  <dc:subject/>
  <dc:title>DUE DATES</dc:title>
</cp:coreProperties>
</file>